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DDD0-F100-4D5C-8B40-9C9084BE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3344-D8E3-41BA-A571-575E6997D7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A72-1FE4-4C68-AF93-B4CC511BA7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h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C27F-8A3E-41CA-9037-3F0E32AA05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58C3-CF6D-4433-8288-FD5A7F5A98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AD22-AF8A-4178-B190-1F1572E4CF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K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F8D0-86AE-4A22-A419-9BD74AAA57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7AD-CB2A-4F1B-B765-6773126A6C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07E-CC00-4600-AE3C-A2727E982F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D63-F9EC-4DA6-B945-053498676F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635-1AE1-4F55-A82C-979DBF8D44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0F3-9EEA-4CF2-8352-CA8EEC0F38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y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A55-AE72-4946-B315-6EA05F4A2D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AE4-AA3E-43B3-AE4A-BD7A45DE01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3A49-E49D-478E-88C2-CCA7F43CE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108-D99C-414E-B212-F54C2046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DC9-29C6-4860-ABAF-7BA9B65D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565-E4B7-47BA-A40A-8533CA75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31B-A73B-4C13-80EA-EDE7597D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0DC-54A1-40A1-BCD1-6B5E492E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7381-DAD3-499D-A362-77D14726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B4AE-35FD-4EB1-87F3-2889957A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4044-A31D-4E72-B940-36EB947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D07C-1C25-4AD0-9F1A-2F215362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F04-8117-451D-8423-0B6CE56A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05FC-D487-416E-A39F-F0EA91F6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3CB-5E5C-4C77-970B-5184606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447-1975-4E04-951D-92858A4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595-5F6A-406D-904F-4FF6137D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0A48-672D-4C71-ABAA-3507B76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0D49-1E14-4586-A461-30BBA8B7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64CA-F952-414F-ACEC-878539C0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4E8F-C50C-4C82-B3C2-E772AE92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41C7-5E76-43DD-B718-C41A0EF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E73E-43AA-4B46-B48D-68F4BAE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AE82-E199-4429-A1E5-AC4B998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5659-7C9A-43AD-B77E-D48B4190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40E-72E2-49C2-91B2-8DAFB18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D43A-2885-4244-BB39-A4C0BB3B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9E99-579F-4366-9B3B-C31668D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B107-E168-4D99-A081-991CA72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142F-57CA-4C19-9598-DB07843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C3FA-1FDB-441A-8527-161F8C3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9420-DEBF-4DBC-8F82-0337E3C5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6EE3-81EE-478B-80A4-480AEAF0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508F-8B66-4A54-8AF3-C616B2F2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AEB1-E7FB-43D1-9BDC-D1C6D617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8646-1719-4D53-AFC0-E3C74D6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CE9-6270-495D-A7E7-A45B81B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35D8-1B16-4176-B92D-E08867CA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E212-4F06-4A88-AB85-7BB7FB5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D056-2FAE-4E6A-AAC9-2B22A54B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E340-6C2A-4989-806F-B88FE4A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D9C7-E925-4F70-8796-C795407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0A5B-603C-4966-8710-905856D9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1A0D-D720-4D0E-A06D-66457C9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8F01-9D3E-41EC-89F4-EFA3ED52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DE7D-FF6D-4771-B5FF-E42F42A5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28DC9-B25D-4868-9C75-882E391F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46B-97BB-4E2F-BE0F-B6888AD2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1488-9A0A-41FE-9923-6265417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7769-E78A-4A01-9FEE-E3A5481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6287A-4E5C-40B1-8BA2-71D89AAE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B5A8-CA22-4E6E-B8A5-2FA8E25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1356-9A42-4559-805E-0BCCFB6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EF2D-CA28-495A-A8AE-52A164A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2E02B-2287-4A9E-8583-13AF9C1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59C27-5E88-4642-B9D3-E485A5B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3D5B-4B54-4E12-81C6-199FC21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9875-7CD6-4031-9AC2-4D4ED09A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E04-C6E9-483B-B9B3-323E04DF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BC54-F418-407D-B316-2E971755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429E7-E6B2-4350-A0A6-9D39CD6B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ACFE-AAB2-4948-8E29-089CD47F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ACD5-72AB-4F75-B385-38E30F3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345E-1559-489A-8646-2BEC2EE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F564-60E2-4971-B8D0-C413FC49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DC6B8-2E22-4563-8627-CFCA44FE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9B94-CF24-4698-8AFE-C4AA1D7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949D-C4FC-4D99-B291-65A61E69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3CD6-523D-4E34-B0D9-5A7E44E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572-1AB1-4929-9B63-2C03829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0832A-B5B6-4EF4-A36E-A24F7B40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DD26C-32F1-464A-AB57-9F902F74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47C1-A0AB-4AAA-A502-23077FBE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5A784-E131-47A9-917B-C1D2855C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D161-5ED5-42D3-8C4E-DA4CAD9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2F94D-A165-4D80-90F2-FED33AEC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87474-B536-4269-9CC4-186AEF1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4164-3623-4BBE-B407-BC1BBDDD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209A7-E809-4903-AD7E-F4F290D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A1899-0ACA-4216-A712-37FF0C1D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23E-A9CC-45B6-852F-A965362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6D887-29BF-41F8-9E11-E990D76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390B7-7145-492A-84E5-67F3FB6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41DC8-26F7-466F-B228-83275E4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0D43-CF8E-4E67-835D-565C5E46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DAEB-986B-43C9-9143-3D2D8549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435-2A1A-4F9E-9D1C-8FD9BB6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2039-4C99-41C6-8BE8-0F8C300CDA4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AC3-6269-4C19-99D6-693FAA9283F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C244-1660-4ACE-AC13-ABB7793BFC0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DDB8-2FFC-42BD-ACAF-A7B7C1891AD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05F4-E32B-47AA-AF65-694AC724D2D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B72A-9317-4266-845D-93401AD2062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EE6-E1E0-458B-A172-3D852D5C00D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396720" y="2170080"/>
            <a:ext cx="8313840" cy="3859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http://www.worldofstock.com/slides/BTE1563.jpg"/>
          <p:cNvPicPr/>
          <p:nvPr/>
        </p:nvPicPr>
        <p:blipFill>
          <a:blip r:embed="rId3"/>
          <a:stretch/>
        </p:blipFill>
        <p:spPr>
          <a:xfrm>
            <a:off x="1066680" y="914400"/>
            <a:ext cx="4762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://chipdesignmag.com/images/2010/February-March_2010/FEATURE1_FIG7.jpg"/>
          <p:cNvPicPr/>
          <p:nvPr/>
        </p:nvPicPr>
        <p:blipFill>
          <a:blip r:embed="rId2"/>
          <a:stretch/>
        </p:blipFill>
        <p:spPr>
          <a:xfrm>
            <a:off x="228600" y="1600200"/>
            <a:ext cx="4368960" cy="2895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0" y="14940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arrel Shi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mple design=small are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hift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eft up to 4 bi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laces 0’s in the lower bits after shift occurs = easier to implement arithmetic operation with the shifted resul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35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coder with passgate logic = uses fewer ga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es two inverters in series connected back to the 8:1 mux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6" descr="Crystal"/>
          <p:cNvPicPr/>
          <p:nvPr/>
        </p:nvPicPr>
        <p:blipFill>
          <a:blip r:embed="rId2"/>
          <a:srcRect l="57779" t="10221" r="0" b="51459"/>
          <a:stretch/>
        </p:blipFill>
        <p:spPr>
          <a:xfrm>
            <a:off x="2133720" y="2819520"/>
            <a:ext cx="4800600" cy="3789360"/>
          </a:xfrm>
          <a:prstGeom prst="rect">
            <a:avLst/>
          </a:prstGeom>
          <a:ln w="0">
            <a:noFill/>
          </a:ln>
        </p:spPr>
      </p:pic>
      <p:sp>
        <p:nvSpPr>
          <p:cNvPr id="341" name="Straight Connector 7"/>
          <p:cNvSpPr/>
          <p:nvPr/>
        </p:nvSpPr>
        <p:spPr>
          <a:xfrm flipV="1">
            <a:off x="5181480" y="3048120"/>
            <a:ext cx="0" cy="27432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traight Connector 8"/>
          <p:cNvSpPr/>
          <p:nvPr/>
        </p:nvSpPr>
        <p:spPr>
          <a:xfrm>
            <a:off x="2590920" y="3048120"/>
            <a:ext cx="2590560" cy="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traight Connector 10"/>
          <p:cNvSpPr/>
          <p:nvPr/>
        </p:nvSpPr>
        <p:spPr>
          <a:xfrm>
            <a:off x="2590920" y="3048120"/>
            <a:ext cx="0" cy="68580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4" name="Straight Arrow Connector 13"/>
          <p:cNvCxnSpPr/>
          <p:nvPr/>
        </p:nvCxnSpPr>
        <p:spPr>
          <a:xfrm>
            <a:off x="2590920" y="3733920"/>
            <a:ext cx="838800" cy="2160"/>
          </a:xfrm>
          <a:prstGeom prst="straightConnector1">
            <a:avLst/>
          </a:prstGeom>
          <a:ln w="57240">
            <a:solidFill>
              <a:srgbClr val="ff248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 Bit Array Multipl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the 8 LSB of the inputs and returns a 16 bit resul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And gates, Half-Adders, and Full-Add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-6480" y="450720"/>
            <a:ext cx="1079640" cy="595656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522440" y="6480"/>
            <a:ext cx="67834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itially an AND gate with same inpu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witched to Tgate implementatio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590920" y="1828800"/>
          <a:ext cx="4495680" cy="3325680"/>
        </p:xfrm>
        <a:graphic>
          <a:graphicData uri="http://schemas.openxmlformats.org/drawingml/2006/table">
            <a:tbl>
              <a:tblPr/>
              <a:tblGrid>
                <a:gridCol w="1295280"/>
                <a:gridCol w="320040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S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69757e-2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.33949 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er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248221e-8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r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13250e-25 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x m x 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41436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49568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85723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2736720" y="2432160"/>
            <a:ext cx="37609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534520" cy="65534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5720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before  reg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45720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to al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racterist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Techniqu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Practic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p level ALU connec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per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tric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mmary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882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mbedded Digital Signal Processor for PIC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I 0.5 um technolog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ce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ed the inputs through 2 series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rove the output through 4 parallel invert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http://www.clemson.edu/ces/departments/ece/images/dream_jobs/circuit.jpg"/>
          <p:cNvPicPr/>
          <p:nvPr/>
        </p:nvPicPr>
        <p:blipFill>
          <a:blip r:embed="rId2"/>
          <a:stretch/>
        </p:blipFill>
        <p:spPr>
          <a:xfrm>
            <a:off x="6019920" y="2743200"/>
            <a:ext cx="2628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6840" y="1371600"/>
            <a:ext cx="4800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romises betwee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rea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gn decis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cused on delays in add/subtra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2" descr="http://img.archiexpo.com/images_ae/photo-g/design-hall-mirror-94175.jpg"/>
          <p:cNvPicPr/>
          <p:nvPr/>
        </p:nvPicPr>
        <p:blipFill>
          <a:blip r:embed="rId2"/>
          <a:srcRect l="25891" t="0" r="0" b="0"/>
          <a:stretch/>
        </p:blipFill>
        <p:spPr>
          <a:xfrm>
            <a:off x="5486400" y="1676520"/>
            <a:ext cx="3271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onent Heirarch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using compone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ubcircuits libr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rly tested to ensure accurate resul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ean to prevent bugs or erro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lexible for future design modific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76280" y="268200"/>
            <a:ext cx="8186760" cy="1401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Crystal"/>
          <p:cNvPicPr/>
          <p:nvPr/>
        </p:nvPicPr>
        <p:blipFill>
          <a:blip r:embed="rId2"/>
          <a:stretch/>
        </p:blipFill>
        <p:spPr>
          <a:xfrm>
            <a:off x="1943280" y="1882800"/>
            <a:ext cx="525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d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Sub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AN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hift Left Logic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6b Pa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8b Multipl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http://www.ece.ucsb.edu/~parhami/images_folder/digits_arith.jpg"/>
          <p:cNvPicPr/>
          <p:nvPr/>
        </p:nvPicPr>
        <p:blipFill>
          <a:blip r:embed="rId2"/>
          <a:stretch/>
        </p:blipFill>
        <p:spPr>
          <a:xfrm>
            <a:off x="4495680" y="1371600"/>
            <a:ext cx="41626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2"/>
          <a:srcRect l="5319" t="9238" r="3329" b="9238"/>
          <a:stretch/>
        </p:blipFill>
        <p:spPr>
          <a:xfrm>
            <a:off x="2286000" y="1219320"/>
            <a:ext cx="4886280" cy="25146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20040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bit Mirror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6" descr="http://img.search.com/thumb/5/5d/4-bit_ripple_carry_adder.svg/500px-4-bit_ripple_carry_adder.svg.png"/>
          <p:cNvPicPr/>
          <p:nvPr/>
        </p:nvPicPr>
        <p:blipFill>
          <a:blip r:embed="rId3"/>
          <a:stretch/>
        </p:blipFill>
        <p:spPr>
          <a:xfrm>
            <a:off x="2362320" y="4191120"/>
            <a:ext cx="4762440" cy="19047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6"/>
          <p:cNvSpPr/>
          <p:nvPr/>
        </p:nvSpPr>
        <p:spPr>
          <a:xfrm>
            <a:off x="342900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pple Carry 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mplemented using the same 1 bit full adders that we used with the 16b add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s 2s complement of input B and adds to input 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verflow detec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3:28:10Z</dcterms:created>
  <dc:creator>Student</dc:creator>
  <dc:description/>
  <dc:language>en-US</dc:language>
  <cp:lastModifiedBy>Manoj</cp:lastModifiedBy>
  <dcterms:modified xsi:type="dcterms:W3CDTF">2010-05-03T06:24:05Z</dcterms:modified>
  <cp:revision>72</cp:revision>
  <dc:subject/>
  <dc:title>Crystal</dc:title>
</cp:coreProperties>
</file>